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4E23-A864-44D8-92C2-0038F3F5C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E313-1328-41BE-B003-2E1D313159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859D3-5D1C-408A-B820-3E07EF4D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66739-D3AB-4E71-9E2D-D223BBD2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C78DB-2C80-4362-BA77-49B16ADD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9F2DE-F63B-402C-BBED-283B9D6B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D89DE-D794-4946-952A-66A0F69E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DE85C-FD5F-4699-9D7E-9F41CBA2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791C7-F8EC-4432-8AEE-50992961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8BFD4-31E1-4156-AC8E-36FFFF91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BA54F-0329-4EE7-9C6F-F1A55C98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1C209-CC3F-41AB-8911-E79F2475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DECD-5CE7-436F-85DE-263C14D9348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20F53-E309-4B9F-9CD2-C7AD65CC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B2230-CF8C-429A-93C2-50AF6E8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00B13-CA78-4256-9FDA-18FCFB88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71D28-5449-4398-978F-B94D63F2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952C4-BDE3-407D-8B5B-1A6510AE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5560A-2371-4E7A-BBFF-8E72ABA5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CBB42-52F8-4EF4-9444-A2842F49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8B3D9-7464-4FCE-89B4-F82AF87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03419-AE6A-41C2-8F67-24A9402C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133F6-0490-4A19-B8E2-F0DE034C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DD2C-39E2-47A1-AF86-766BBA305C7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D3E2C-3AA9-4AEC-AF8C-93C8648A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238B26-0758-4A8A-810D-83EC5C8A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9C92EA-0B65-4354-83D7-E238D0F0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B1E91C-B2A6-45B5-9367-DE7851C2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024303-8B80-4A1A-99D6-34944230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36A914-7346-46F3-AA94-FAECA836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0966C6-8F64-4C7D-A1CF-D31CF5B3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CCA9B8-5EF8-450D-B6CD-DA045588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93E72A-093A-436D-A66D-B42AA80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5AD372-EE46-4DA1-A7F6-301E880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FAB4F-6AC7-4131-94C0-A96C2A0C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C53F0C-34C6-4D99-BC35-ACB5B481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2E02D1-E1EE-48E8-8EF0-7F69469E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1B9AA2-48E6-4CC9-8F59-A69EEAC6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D0354-DBB3-4E67-B9D8-F748512C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BB175-1574-4D6D-B362-49739AA0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95DC4-A068-4F42-B090-14E7B90F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25D4B-3EF9-4488-83E2-422152D8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EAEFA-A903-4EBE-8CE5-5A08CABB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949CC-0B62-40F4-B655-34FFA43D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CBACB-D714-4FD2-B396-F3DB850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48BA6-1A57-414F-BF05-9BB722A7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59187-5891-4D9C-B2E3-E69C888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C700C-8608-495A-8595-37597D76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73600-2327-402B-9614-0C0074E0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01DF8-9215-4BC3-95B2-28EE3187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6EE96-14E6-4A08-95B5-BF1F05B6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5CDE5A-3213-48F4-B4AB-9133F060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C22072-E30D-4155-988A-4D6AEF60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4BCC06-6C18-4673-B5D6-1B3F2734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6EF1DE-AA7D-4E4B-A6A7-A3C6FD21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D64D09-F034-4D5E-B485-A7FEBC0B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AF7F7-FB5E-402C-93BE-3198D1A7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92EEB1-90FA-43D2-AFDF-63FC15AB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6E92D8-4D7A-45A7-B5AC-ABD1152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F2FCA3-0140-4FA2-BBC4-00E1590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5F66F5-88EC-4357-8806-D79C62F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67B2BF-ABBE-49FC-9C2C-8CF56AAD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B5134E-0787-4972-B323-BD3A59B1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29623D-04E7-46F8-949B-10858987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1DFB5-22AF-4C6D-8F7C-7275E85C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28590-93B8-4B7A-9169-910523D5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507F3-311B-41A1-B46E-A9749F92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31FEF-6DFC-4F47-9C59-F53EC9CA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6D54-2344-46B4-A8A9-62B461959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98C5D-F393-4639-95AA-4F6833CD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97671-6624-47BA-9675-B7170C58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093EF-6DA2-4E7D-9D7F-90AD5222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A89E3-A688-4F1C-B270-E8C05BD2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FFD73-00A5-4D9D-87A4-59AA1E9B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20BCE-0E3A-45C4-B7F3-CCAD56D9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1011F-3690-4030-9803-790E3E77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288BD-6F06-4394-B397-9E1F639A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87774-D43F-424F-88FB-92CB455A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1235B-D345-4DA0-B45F-D5E3BF99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44B8-B910-4F0F-9444-A2A3300AED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30AB5-0E80-43FB-A80F-3007E1F6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76F4B-3418-4866-8B80-12806A5A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F8DC6-D44A-4030-9CD3-CB6F4587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C2F1B9-4CD9-49D8-B84D-DF57B54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5E1F1C-4F87-497A-AD64-9FBC21D7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BA749-5A41-43C1-B7BC-81970BD6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F0FB1-4361-4027-A7F0-C42A25FD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C50B9-121C-4D93-838F-4047AB05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E7387-1CE0-4FF6-B009-6B71A1FB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CEF5C-DDBC-44AC-BE27-09FF26B8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BDD0-6B3A-4E3B-8AA0-085E6BB5AE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ED677-E664-4FFD-B8E6-EB5C44FE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17AB2-B67C-4AC8-85CF-2FDD3171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14968-BAF1-46ED-8C97-A7C8C559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447C8-CF04-4F3F-8DDD-C04F125D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7955C-A103-4C43-9874-80D02105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17DB2-A723-4316-9982-9701B17A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C6B7F-4BAB-4F6C-91A2-6FCB8BB6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6C5D3-B80E-4495-8E82-7FBF73B2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FE374-B078-49DC-84D5-86FD6345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47A739-EA56-4A8B-BAD6-950F8D79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C6C2-BDE8-4309-9651-54562A6D18C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D172D5-0D33-4560-B287-F187F0C7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7499E-C6E8-4BE7-8FB2-2E1AB286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59CE8-D55B-4351-9FCE-8D144AC6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B14F87-E7FE-420E-902D-2295DB69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C43287-FAB4-4882-B11D-72FBA51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297514-1997-4AD7-9454-B76D4CE2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0C2B0-8A2D-4C29-8323-4A55833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8EC23-C4FC-4869-A366-70C8A238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E7632-5058-43CF-ABED-C4E63516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205D02-96AA-4BBF-A14A-F090955B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AC27-455A-4747-A5BE-3A564FEF34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2CE39-EE2B-4FAA-8B43-2DAC7B1E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DC3F7D-ED07-45E7-A4D1-0FF797A1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027920-BB51-4F3D-A8CB-83BC7DEF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0D78DA-772A-489B-902D-36A920CD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14A550-8A59-4D43-92CA-93D28A14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917C4-9482-4F30-9244-BA272EBC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A84F19-6792-4C94-9DA3-BBB1A50E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79FCAD-B4FB-410E-A216-1A5F3239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4063CC-AD99-4D4F-83B9-148155A4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CBDB5-1B38-41E0-949D-B2CE5D4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763E-1444-4964-AA8E-51B1068332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A611F9-6ED5-4134-91B8-8779F791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ED478A-4380-4709-AC9C-1DE5A703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006A86-01BF-4E24-B30C-234707E5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E73317-D012-4525-AA47-2AC11FE2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F93505-3A6C-45E6-8F6F-37E6600C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816158-60D5-4ABF-997C-70370398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23CE10-772A-4895-BCC3-9979EBF1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3188CD-7211-4860-AA33-16BC70C6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DA5687-06D4-4E8A-931C-402AE10B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9AB76D-C515-4866-91EF-FBBF6CF0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F4AA-7C90-46FD-AE80-1981974CC7E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FFB1E8-AB61-4045-9532-9CEF88D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3131AA-3FC8-4DDF-9FDA-71FD7B47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0877A-EFB1-44C8-9C10-429BD641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83BB73-111E-4E7A-9B28-60E6DF5B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621182-0802-476F-B107-4BEFACE7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8FCF3-F27F-41AF-9A57-622A18B2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C1157C-9BC5-473B-9211-1A49C4ED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ADF8E0-6812-4F38-A53B-FA70B8AC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B33E25-F047-4CEE-B7C0-B98DB39A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BEF8F5-08A2-4253-B29B-7CE9305C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4CED-EECB-4F9C-80DE-C8DC765D5B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68400"/>
            <a:ext cx="822960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F9DDC6-EF9B-4F46-8945-C804073C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4052EF-EE5A-49B0-B180-22EB6438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02BAC-49FB-4D43-8400-54013AA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501E6D-5B47-4B2D-86C7-8737FD38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26016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456136-1EE8-43BD-8522-5E353111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260160"/>
            <a:ext cx="40158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6C4754-7C4F-4A9D-979A-5D076294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260160"/>
            <a:ext cx="2649600" cy="188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5FAC3F-BD13-498D-9322-A036A201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4DED2-2E70-4687-8605-9465FF88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7CE8B-89BB-4CA5-8C7B-5BAE7562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06227-1185-42CC-9198-C0A8DAC6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3680" indent="-56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11920" indent="-524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958400" indent="-628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1920" indent="-628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1920" indent="-628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1920" indent="-628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1840" y="4768560"/>
            <a:ext cx="264960" cy="26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BF1C-8BCB-4EC2-8583-3CBD0EF17637}" type="slidenum">
              <a:rPr b="0" lang="ru-RU" sz="120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EF1C-C65D-464A-B53C-60100BD3DD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496F-FB77-4C60-88AB-02A4BF9E70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26B4-7C75-418F-B07E-0FEEA97ED0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AFA5-8656-40C5-A4E7-281A63E540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3130-86BD-4F1C-A671-FE63838F68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FAE9-642C-44AE-9B76-2ABD1E6CE7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5F40-A05D-4F37-A486-AE72557E4A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1923-3700-4EE7-A330-A10C3410BF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21B9-FA0C-4F93-A54F-819C433304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19EF-73BD-4AB5-88AA-F8C9291398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0E07-72E2-4021-9B74-6C47CF14F0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9096-2F9D-40BA-855E-1447B91C19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 flipH="1">
            <a:off x="4338720" y="47005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Arial Narrow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Рисунок 16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7" descr=""/>
          <p:cNvPicPr/>
          <p:nvPr/>
        </p:nvPicPr>
        <p:blipFill>
          <a:blip r:embed="rId2"/>
          <a:stretch/>
        </p:blipFill>
        <p:spPr>
          <a:xfrm>
            <a:off x="1000080" y="428760"/>
            <a:ext cx="3346560" cy="40788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3"/>
          <p:cNvSpPr/>
          <p:nvPr/>
        </p:nvSpPr>
        <p:spPr>
          <a:xfrm>
            <a:off x="270000" y="1276200"/>
            <a:ext cx="8823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Профилактика наруше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с «формальным» составом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Федеральный закон от 29.12.1994 № 77-ФЗ  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«Об обязательном экземпляре документо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0" y="69840"/>
            <a:ext cx="914400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46aac4"/>
            </a:solidFill>
            <a:round/>
          </a:ln>
          <a:effectLst>
            <a:outerShdw dist="11592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закон от 29.12.1994 № 77-Ф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язательном экземпляре документов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Прямоугольник 6"/>
          <p:cNvSpPr/>
          <p:nvPr/>
        </p:nvSpPr>
        <p:spPr>
          <a:xfrm>
            <a:off x="0" y="716040"/>
            <a:ext cx="9144000" cy="13107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ложением «О Федеральной службе по надзору в сфере связи, информационных технологий и массовых коммуникаций», утвержденным постановлением Правительства Российской Федерации от 16 марта 2009 года № 228, Роскомнадзор осуществляет государственный контроль и надзор за представлением обязательног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емпляра документов в установленной сфере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11"/>
          <p:cNvSpPr/>
          <p:nvPr/>
        </p:nvSpPr>
        <p:spPr>
          <a:xfrm>
            <a:off x="2556000" y="2043000"/>
            <a:ext cx="3744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учатели федерального экземпля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19080" y="3435480"/>
            <a:ext cx="2038320" cy="15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орган исполнительной власти в сфере печати, средств массовой информации и массовых коммуникаций (Роспечат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4"/>
          <p:cNvSpPr/>
          <p:nvPr/>
        </p:nvSpPr>
        <p:spPr>
          <a:xfrm>
            <a:off x="2235240" y="3448080"/>
            <a:ext cx="1508040" cy="15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е телеграфное агентство России (ИТАР-ТАСС) Российская государственная библиот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5"/>
          <p:cNvSpPr/>
          <p:nvPr/>
        </p:nvSpPr>
        <p:spPr>
          <a:xfrm>
            <a:off x="19080" y="2571840"/>
            <a:ext cx="4048200" cy="6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е печатное из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сается как печатного издания так и электронного экземпляра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6"/>
          <p:cNvSpPr/>
          <p:nvPr/>
        </p:nvSpPr>
        <p:spPr>
          <a:xfrm>
            <a:off x="4224960" y="2655720"/>
            <a:ext cx="19972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ое из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7"/>
          <p:cNvSpPr/>
          <p:nvPr/>
        </p:nvSpPr>
        <p:spPr>
          <a:xfrm>
            <a:off x="4091400" y="3164040"/>
            <a:ext cx="226260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технический цент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нформрегистр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8"/>
          <p:cNvSpPr/>
          <p:nvPr/>
        </p:nvSpPr>
        <p:spPr>
          <a:xfrm>
            <a:off x="6356520" y="2646360"/>
            <a:ext cx="2663640" cy="51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визуальная продукц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радиопрограм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9"/>
          <p:cNvSpPr/>
          <p:nvPr/>
        </p:nvSpPr>
        <p:spPr>
          <a:xfrm>
            <a:off x="7236000" y="3425760"/>
            <a:ext cx="190800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ая государственная телевизионная и радиовещательная компания (ВГТР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5" name="Прямая со стрелкой 21"/>
          <p:cNvCxnSpPr>
            <a:stCxn id="537" idx="2"/>
          </p:cNvCxnSpPr>
          <p:nvPr/>
        </p:nvCxnSpPr>
        <p:spPr>
          <a:xfrm flipH="1">
            <a:off x="3058560" y="2382480"/>
            <a:ext cx="1369080" cy="189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6" name="Прямая со стрелкой 24"/>
          <p:cNvCxnSpPr>
            <a:stCxn id="537" idx="2"/>
          </p:cNvCxnSpPr>
          <p:nvPr/>
        </p:nvCxnSpPr>
        <p:spPr>
          <a:xfrm>
            <a:off x="4427640" y="2382840"/>
            <a:ext cx="505440" cy="264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7" name="Прямая со стрелкой 27"/>
          <p:cNvCxnSpPr>
            <a:stCxn id="537" idx="2"/>
          </p:cNvCxnSpPr>
          <p:nvPr/>
        </p:nvCxnSpPr>
        <p:spPr>
          <a:xfrm>
            <a:off x="4427640" y="2382840"/>
            <a:ext cx="2666160" cy="264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8" name="Прямая со стрелкой 39"/>
          <p:cNvCxnSpPr>
            <a:stCxn id="540" idx="2"/>
            <a:endCxn id="539" idx="0"/>
          </p:cNvCxnSpPr>
          <p:nvPr/>
        </p:nvCxnSpPr>
        <p:spPr>
          <a:xfrm>
            <a:off x="2042640" y="3079440"/>
            <a:ext cx="947160" cy="369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9" name="Прямая со стрелкой 42"/>
          <p:cNvCxnSpPr/>
          <p:nvPr/>
        </p:nvCxnSpPr>
        <p:spPr>
          <a:xfrm flipH="1">
            <a:off x="1050480" y="3068640"/>
            <a:ext cx="1007280" cy="357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0" name="Прямая со стрелкой 45"/>
          <p:cNvCxnSpPr>
            <a:stCxn id="541" idx="2"/>
          </p:cNvCxnSpPr>
          <p:nvPr/>
        </p:nvCxnSpPr>
        <p:spPr>
          <a:xfrm>
            <a:off x="5222520" y="2995200"/>
            <a:ext cx="1080" cy="175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1" name="Прямая со стрелкой 48"/>
          <p:cNvCxnSpPr>
            <a:stCxn id="543" idx="2"/>
          </p:cNvCxnSpPr>
          <p:nvPr/>
        </p:nvCxnSpPr>
        <p:spPr>
          <a:xfrm>
            <a:off x="7687800" y="3169800"/>
            <a:ext cx="1080" cy="2660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52" name="Рисунок 16" descr=""/>
          <p:cNvPicPr/>
          <p:nvPr/>
        </p:nvPicPr>
        <p:blipFill>
          <a:blip r:embed="rId2"/>
          <a:stretch/>
        </p:blipFill>
        <p:spPr>
          <a:xfrm>
            <a:off x="33480" y="98280"/>
            <a:ext cx="590400" cy="590760"/>
          </a:xfrm>
          <a:prstGeom prst="rect">
            <a:avLst/>
          </a:prstGeom>
          <a:ln w="0">
            <a:noFill/>
          </a:ln>
        </p:spPr>
      </p:pic>
      <p:sp>
        <p:nvSpPr>
          <p:cNvPr id="553" name="TextBox 52"/>
          <p:cNvSpPr/>
          <p:nvPr/>
        </p:nvSpPr>
        <p:spPr>
          <a:xfrm>
            <a:off x="3865680" y="3759120"/>
            <a:ext cx="3240000" cy="1371600"/>
          </a:xfrm>
          <a:prstGeom prst="rect">
            <a:avLst/>
          </a:prstGeom>
          <a:solidFill>
            <a:srgbClr val="ffcc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лу специфики распространения  в сети ИНТЕРНЕТ и отсутствии выпуска СМИ на материальном носителе требования Закона об обязательном экземпляре документов не являются вопросом контроля в отношении СМИ с формой распространения - сетевое издание, информационное агент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174600" y="268200"/>
            <a:ext cx="8828280" cy="70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46aac4"/>
            </a:solidFill>
            <a:round/>
          </a:ln>
          <a:effectLst>
            <a:outerShdw dist="11592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закон от 29.12.1994 № 77-ФЗ 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язательном экземпляре документов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146160" y="2355840"/>
            <a:ext cx="883908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ст.7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изводители документов </a:t>
            </a:r>
            <a:r>
              <a:rPr b="0" lang="ru-RU" sz="16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доставляют,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в том числе через полиграфические организаци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в федеральный орган исполнительной власти в сфере печати, средств массовой информации и массовых коммуникаций по одному обязательному федеральному экземпляру      всех видов печатных изданий </a:t>
            </a:r>
            <a:r>
              <a:rPr b="0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 день выхода в свет первой партии тиража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200160" y="1131840"/>
            <a:ext cx="206820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изводители документов</a:t>
            </a:r>
            <a:r>
              <a:rPr b="0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2 Закона о С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акция средства массовой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2484360" y="1069920"/>
            <a:ext cx="6500880" cy="88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ставляют: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Ожегова: Доставить, - Привести, принести или привезти к месту назначения. Соответственно исходя из нормы в день выхода в свет обязательный экземпляр должен быть у получателя, что невозможно и только здесь мы трактуем слово доставить – как отправ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4951440" y="3940200"/>
            <a:ext cx="40338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в том числе через полиграфические организации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ли способ, с 2016 года у редакции появилась возможность самим выбрать способ, но  заключение договора с типографией не освобождает редакцию от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212760" y="3817800"/>
            <a:ext cx="441972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 день выхода в свет первой партии тиража: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исполнения – день выхода в свет, нарушение наступает в 00-01 следующего дня за днем выхода в свет, исключения составляет невозможность исполнения (выходной день почтамта), тогда срок исполнения следующий рабочий день и срок нарушения- день, следующий за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Рисунок 16" descr=""/>
          <p:cNvPicPr/>
          <p:nvPr/>
        </p:nvPicPr>
        <p:blipFill>
          <a:blip r:embed="rId2"/>
          <a:stretch/>
        </p:blipFill>
        <p:spPr>
          <a:xfrm>
            <a:off x="285840" y="326880"/>
            <a:ext cx="590400" cy="590760"/>
          </a:xfrm>
          <a:prstGeom prst="rect">
            <a:avLst/>
          </a:prstGeom>
          <a:ln w="0">
            <a:noFill/>
          </a:ln>
        </p:spPr>
      </p:pic>
      <p:cxnSp>
        <p:nvCxnSpPr>
          <p:cNvPr id="561" name="Прямая со стрелкой 2"/>
          <p:cNvCxnSpPr>
            <a:endCxn id="556" idx="2"/>
          </p:cNvCxnSpPr>
          <p:nvPr/>
        </p:nvCxnSpPr>
        <p:spPr>
          <a:xfrm flipH="1" flipV="1">
            <a:off x="1234440" y="1961640"/>
            <a:ext cx="168840" cy="394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62" name="Прямая со стрелкой 6"/>
          <p:cNvCxnSpPr/>
          <p:nvPr/>
        </p:nvCxnSpPr>
        <p:spPr>
          <a:xfrm flipV="1">
            <a:off x="3779640" y="1961640"/>
            <a:ext cx="1080" cy="394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63" name="Прямая со стрелкой 9"/>
          <p:cNvCxnSpPr/>
          <p:nvPr/>
        </p:nvCxnSpPr>
        <p:spPr>
          <a:xfrm>
            <a:off x="7552800" y="2642760"/>
            <a:ext cx="73800" cy="1297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564" name="Прямая со стрелкой 16"/>
          <p:cNvCxnSpPr/>
          <p:nvPr/>
        </p:nvCxnSpPr>
        <p:spPr>
          <a:xfrm flipH="1">
            <a:off x="2771280" y="3431880"/>
            <a:ext cx="721440" cy="386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9280" y="281160"/>
            <a:ext cx="8856720" cy="706320"/>
          </a:xfrm>
          <a:prstGeom prst="rect">
            <a:avLst/>
          </a:prstGeom>
          <a:blipFill rotWithShape="0">
            <a:blip r:embed="rId1"/>
            <a:stretch/>
          </a:blipFill>
          <a:ln w="12600">
            <a:solidFill>
              <a:srgbClr val="46aac4"/>
            </a:solidFill>
            <a:round/>
          </a:ln>
          <a:effectLst>
            <a:outerShdw dist="115920" dir="5400000" blurRad="0" rotWithShape="0">
              <a:srgbClr val="000000">
                <a:alpha val="35000"/>
              </a:srgbClr>
            </a:outerShdw>
          </a:effectLst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закон от 29.12.1994 № 77-ФЗ 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язательном экземпляре докумен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85840" y="1203480"/>
            <a:ext cx="8534160" cy="3744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lIns="45720" rIns="45720" anchor="t">
            <a:normAutofit fontScale="98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.7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изводители документ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последующего распределения изданий между крупнейшими библиотечно-информационными организациями </a:t>
            </a: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ставля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том числе через полиграфические орган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день выхода в свет первой партии тиража печатных изда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формационное телеграфное агентство России (ИТАР-ТАСС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х экземпляров книг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юр, журнал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должающихся изданий на русском язы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х экземпляр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х газет и газет субъектов Российской Федераци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ском язы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ых экземпляр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тиражных газет муниципальных образований и рекламных издан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ском язы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ых экземпляра книг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юр, журна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должающихся изданий, изоизданий, географических карт и атласов на языках народов Российской Федерации (за исключением русского) и на иностранных языка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х экземпляр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ет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языках народов Российской Федерации (за исключением русского) и иностранных язык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Рисунок 16" descr=""/>
          <p:cNvPicPr/>
          <p:nvPr/>
        </p:nvPicPr>
        <p:blipFill>
          <a:blip r:embed="rId2"/>
          <a:stretch/>
        </p:blipFill>
        <p:spPr>
          <a:xfrm>
            <a:off x="285840" y="309600"/>
            <a:ext cx="5904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0240" y="192240"/>
            <a:ext cx="8929800" cy="707760"/>
          </a:xfrm>
          <a:prstGeom prst="rect">
            <a:avLst/>
          </a:prstGeom>
          <a:blipFill rotWithShape="0">
            <a:blip r:embed="rId1"/>
            <a:stretch/>
          </a:blipFill>
          <a:ln w="12600">
            <a:solidFill>
              <a:srgbClr val="46aac4"/>
            </a:solidFill>
            <a:round/>
          </a:ln>
          <a:effectLst>
            <a:outerShdw dist="115920" dir="5400000" blurRad="0" rotWithShape="0">
              <a:srgbClr val="000000">
                <a:alpha val="35000"/>
              </a:srgbClr>
            </a:outerShdw>
          </a:effectLst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закон от 29.12.1994 № 77-ФЗ 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язательном экземпляре докумен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Рисунок 16" descr=""/>
          <p:cNvPicPr/>
          <p:nvPr/>
        </p:nvPicPr>
        <p:blipFill>
          <a:blip r:embed="rId2"/>
          <a:stretch/>
        </p:blipFill>
        <p:spPr>
          <a:xfrm>
            <a:off x="285840" y="195120"/>
            <a:ext cx="590400" cy="5907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5"/>
          <p:cNvSpPr/>
          <p:nvPr/>
        </p:nvSpPr>
        <p:spPr>
          <a:xfrm>
            <a:off x="266760" y="1058760"/>
            <a:ext cx="8678880" cy="228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1. ст.7  </a:t>
            </a:r>
            <a:r>
              <a:rPr b="0" lang="ru-RU" sz="1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роизводители документ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чение семи дней со дня выхода в свет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ервой партии тиража печатных изданий доставляют </a:t>
            </a:r>
            <a:r>
              <a:rPr b="0" lang="ru-RU" sz="1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 использованием информационно-телекоммуникационных сетей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одному обязательному экземпляру печатных изданий в электронной форме, </a:t>
            </a:r>
            <a:r>
              <a:rPr b="0" lang="ru-RU" sz="1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заверенному квалифицированной электронной подписью производителя документа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 Информационное телеграфное агентство России (ИТАР-ТАСС) и в Российскую государственную библиоте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доставки, хранения, учета обязательного экземпляра печатного издания в электронной форме, меры защиты при доставке обязательного экземпляра печатного издания в электронной форме, порядок компьютерной обработки данных обязательного экземпляра печатного издания в электронной форме в целях их классификации и систематизации, а также требования к формату доставляемого файла устанавливаются уполномоченными Правительством Российской Федерации федеральными органами исполнительной вла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206280" y="3508200"/>
            <a:ext cx="8758440" cy="14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дакция СМ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ибольшие сложности возникают у СМИ, редакции которых структурные подразделения юридического лица, основная деятельность которых не связана с изданием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 7 дней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числяется с первого дня следующего за днем выхода в свет, </a:t>
            </a:r>
            <a:r>
              <a:rPr b="0" lang="ru-RU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особ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ерез сеть ИНТЕРНЕТ (личный кабинет в реестре), </a:t>
            </a:r>
            <a:r>
              <a:rPr b="0" lang="ru-RU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верение квалифицированной подписью производителя докумен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: в электронной форм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опрос – это порядок компьютерной обработки, в настоящее время информация размещена на сайте и решается индивидуально редакцией, после проведения профилактических мероприятий мы сделали запрос в реестр по всем печатным СМИ, ответ был сформирован незамедлительно, но полученное нас удивило, 50% редакций не приступило к исполнению законодательств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8000" y="123480"/>
            <a:ext cx="8928000" cy="708120"/>
          </a:xfrm>
          <a:prstGeom prst="rect">
            <a:avLst/>
          </a:prstGeom>
          <a:blipFill rotWithShape="0">
            <a:blip r:embed="rId1"/>
            <a:stretch/>
          </a:blipFill>
          <a:ln w="12600">
            <a:solidFill>
              <a:srgbClr val="46aac4"/>
            </a:solidFill>
            <a:round/>
          </a:ln>
          <a:effectLst>
            <a:outerShdw dist="115920" dir="5400000" blurRad="0" rotWithShape="0">
              <a:srgbClr val="000000">
                <a:alpha val="35000"/>
              </a:srgbClr>
            </a:outerShdw>
          </a:effectLst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закон от 29.12.1994 № 77-ФЗ 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язательном экземпляре докумен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Рисунок 16" descr=""/>
          <p:cNvPicPr/>
          <p:nvPr/>
        </p:nvPicPr>
        <p:blipFill>
          <a:blip r:embed="rId2"/>
          <a:stretch/>
        </p:blipFill>
        <p:spPr>
          <a:xfrm>
            <a:off x="250920" y="195120"/>
            <a:ext cx="590400" cy="5907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250560" y="1203480"/>
            <a:ext cx="8497800" cy="1296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lIns="45720" rIns="45720" anchor="t">
            <a:normAutofit fontScale="92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.7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изводители документов </a:t>
            </a: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ставля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том числе через полиграфические орган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обязательных экземпляра субъекта Российской Федера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видов печатных изданий в соответствующие книжные палаты и (или) библиотеки субъектов Российской Федерации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день выхода в свет первой партии тираж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250920" y="2859120"/>
            <a:ext cx="8497800" cy="1310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т в компетенцию Роскомнадзора – согласно нашим положения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униципальными библиотеками заключены соглашения о взаимодействии и мы получаем информацию о предоставлении (не предоставлении) обязательного экземпляра. отдельный протокол   не составляется, но в случае наличия информации о нарушении зафиксировать ее в протокол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"/>
          <p:cNvSpPr/>
          <p:nvPr/>
        </p:nvSpPr>
        <p:spPr>
          <a:xfrm>
            <a:off x="1042920" y="2268360"/>
            <a:ext cx="723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 Narrow"/>
              </a:rPr>
              <a:t>БЛАГОДАРИМ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Рисунок 16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17" descr=""/>
          <p:cNvPicPr/>
          <p:nvPr/>
        </p:nvPicPr>
        <p:blipFill>
          <a:blip r:embed="rId2"/>
          <a:stretch/>
        </p:blipFill>
        <p:spPr>
          <a:xfrm>
            <a:off x="1000080" y="428760"/>
            <a:ext cx="3346560" cy="40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7-19T04:10:26Z</dcterms:modified>
  <cp:revision>219</cp:revision>
  <dc:subject/>
  <dc:title>Презентация PowerPoint</dc:title>
</cp:coreProperties>
</file>